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D65-E82B-4D8B-90FA-EBEF8B23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25F-510D-4424-8C52-338AC93A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B85-A60D-4A51-B7F7-FBCE3751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A0D-1C2D-4BBE-90C4-F0D2C738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822-5766-437E-85A4-C6A9865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9EA-47D9-49E9-8CA8-FA797A8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646-1EC8-4C8B-B879-D9418699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274-FCE8-4136-B167-2E548DC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587-CD36-476C-A4F7-5F0BDD68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21C-55BD-4D9F-A3E7-52DC0E45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071-2CA7-42DE-B9A3-A72E0A5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0E5-3699-4299-AEAD-3F7102B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8D9-80E4-4AFB-BC9D-3556E8A6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 11: Correlations (pt. 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h 12: Regression (pt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 14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 for a and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start by finding the regression coefficient (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find the regression constant  or intercept, (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5486400" y="2057400"/>
                <a:ext cx="2597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4419720" y="4419720"/>
                <a:ext cx="4114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cept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9"/>
          <p:cNvSpPr/>
          <p:nvPr/>
        </p:nvSpPr>
        <p:spPr>
          <a:xfrm>
            <a:off x="536760" y="5410080"/>
            <a:ext cx="68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nown as the “Least Squares Solution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squares regressi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regression lin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raw sc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44800" y="26510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60640" y="30639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160640" y="3476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160640" y="3933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14480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145160" y="22860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3049920" y="4800600"/>
            <a:ext cx="5301000" cy="966960"/>
            <a:chOff x="3049920" y="4800600"/>
            <a:chExt cx="5301000" cy="966960"/>
          </a:xfrm>
        </p:grpSpPr>
        <p:sp>
          <p:nvSpPr>
            <p:cNvPr id="76" name="Text Box 11"/>
            <p:cNvSpPr/>
            <p:nvPr/>
          </p:nvSpPr>
          <p:spPr>
            <a:xfrm>
              <a:off x="6672240" y="48006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3049920" y="480060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.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5138640" y="48006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4"/>
            <p:cNvGrpSpPr/>
            <p:nvPr/>
          </p:nvGrpSpPr>
          <p:grpSpPr>
            <a:xfrm>
              <a:off x="5666400" y="4970520"/>
              <a:ext cx="1151640" cy="797040"/>
              <a:chOff x="5666400" y="4970520"/>
              <a:chExt cx="1151640" cy="797040"/>
            </a:xfrm>
          </p:grpSpPr>
          <p:sp>
            <p:nvSpPr>
              <p:cNvPr id="80" name="Text Box 15"/>
              <p:cNvSpPr/>
              <p:nvPr/>
            </p:nvSpPr>
            <p:spPr>
              <a:xfrm>
                <a:off x="6170760" y="5257440"/>
                <a:ext cx="64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16"/>
              <p:cNvSpPr/>
              <p:nvPr/>
            </p:nvSpPr>
            <p:spPr>
              <a:xfrm rot="2362800">
                <a:off x="5702400" y="510516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solidFill>
                <a:srgbClr val="33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7"/>
            <p:cNvGrpSpPr/>
            <p:nvPr/>
          </p:nvGrpSpPr>
          <p:grpSpPr>
            <a:xfrm>
              <a:off x="3745440" y="4970520"/>
              <a:ext cx="1151640" cy="797040"/>
              <a:chOff x="3745440" y="4970520"/>
              <a:chExt cx="1151640" cy="797040"/>
            </a:xfrm>
          </p:grpSpPr>
          <p:sp>
            <p:nvSpPr>
              <p:cNvPr id="83" name="Text Box 18"/>
              <p:cNvSpPr/>
              <p:nvPr/>
            </p:nvSpPr>
            <p:spPr>
              <a:xfrm>
                <a:off x="4249800" y="5257440"/>
                <a:ext cx="64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19"/>
              <p:cNvSpPr/>
              <p:nvPr/>
            </p:nvSpPr>
            <p:spPr>
              <a:xfrm rot="2362800">
                <a:off x="3781440" y="510516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solidFill>
                <a:srgbClr val="33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20"/>
            <p:cNvSpPr/>
            <p:nvPr/>
          </p:nvSpPr>
          <p:spPr>
            <a:xfrm>
              <a:off x="7831800" y="4800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1"/>
            <p:cNvSpPr/>
            <p:nvPr/>
          </p:nvSpPr>
          <p:spPr>
            <a:xfrm>
              <a:off x="7340760" y="487656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" name="Object 22"/>
              <p:cNvSpPr txBox="1"/>
              <p:nvPr/>
            </p:nvSpPr>
            <p:spPr>
              <a:xfrm>
                <a:off x="2832120" y="1981080"/>
                <a:ext cx="1998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3"/>
              <p:cNvSpPr txBox="1"/>
              <p:nvPr/>
            </p:nvSpPr>
            <p:spPr>
              <a:xfrm>
                <a:off x="5013360" y="1984320"/>
                <a:ext cx="1692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4"/>
              <p:cNvSpPr txBox="1"/>
              <p:nvPr/>
            </p:nvSpPr>
            <p:spPr>
              <a:xfrm>
                <a:off x="2523960" y="3117960"/>
                <a:ext cx="33591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cept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 Box 25"/>
          <p:cNvSpPr/>
          <p:nvPr/>
        </p:nvSpPr>
        <p:spPr>
          <a:xfrm>
            <a:off x="381600" y="4923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068480" y="4876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1602000" y="4876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8"/>
              <p:cNvSpPr txBox="1"/>
              <p:nvPr/>
            </p:nvSpPr>
            <p:spPr>
              <a:xfrm>
                <a:off x="3962520" y="3606840"/>
                <a:ext cx="2209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Object 29"/>
          <p:cNvGraphicFramePr/>
          <p:nvPr/>
        </p:nvGraphicFramePr>
        <p:xfrm>
          <a:off x="3962520" y="4086360"/>
          <a:ext cx="93348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086360"/>
                    <a:ext cx="933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30"/>
          <p:cNvSpPr/>
          <p:nvPr/>
        </p:nvSpPr>
        <p:spPr>
          <a:xfrm>
            <a:off x="533412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Ŷ = .688 + .92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‘a’ and ‘b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ay that x=# hrs studied and y=test score (on 0-10 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‘a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x=0 (study 0 hrs), expect a test score of .6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‘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extra hour you study, expect an increase of .92 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in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l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va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s many variables as you’d like in your correlation matrix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get matrix with 3 rows of output for each combination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the diagonal contains corr of variable with itself, we’re not interested in th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 reports the actual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 reports the significance value (compare to alpha – if &lt; alph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ject the null and conclude the correlation differs significantly from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 reports sample size used to calculate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egression in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3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 that terms used in SPSS are “Independent Variable” (this is x or predictor) and “Dependent Variable” (this is y or criter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handout of output – what to look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Model Summary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” s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hows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ANOVA s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 gives ‘sig value’, if &lt; .0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sts the significance of the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regre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does predic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Coefficients s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 gives ‘constant’ = a (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listed under ‘B’ colu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ine gives ‘unstandardized coefficient’ =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rite the regression/prediction equation from this inf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Testing for Co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hypothesis testing process a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tate research &amp; null hypothese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hypothesis states there is no relationship between variables (correlation in pop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 for population corr is rho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(no relationship betw gender &amp; 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yp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n’t = 0 (there is a signif relationship betw gender &amp; 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priate statistic for testing the signif of a correlation (r) is a t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changes slightly to calculate t for a cor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r and sample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rcRect l="40481" t="11638" r="27504" b="60775"/>
          <a:stretch/>
        </p:blipFill>
        <p:spPr>
          <a:xfrm>
            <a:off x="2438280" y="4343400"/>
            <a:ext cx="341172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ritical value to use for your comparison distribution – it will be a t value from your t table,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-2 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ame decision rule as with t-t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bs value of) t obtained &gt; (abs value) t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Null hypothesis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de correlation is significantly different from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mple of 35 employees, correlation between job dissatisfaction &amp; stress = 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significantly greater than 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yp:  job dissat &amp; stress are significantly positively correlate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hyp: job dissat &amp; stress are not correlate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1-tailed test, use alpha = 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or and Criter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or variabl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variable used to predict something (the criter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on variabl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variable being predicted (from the predicto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E 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edictor) to predict you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grad school (criter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raw-score predic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raw score (on criterion variable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ression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the result of multiplying a raw-sc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ression co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w s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predictor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581280" y="4267080"/>
                <a:ext cx="2438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6"/>
          <p:cNvSpPr/>
          <p:nvPr/>
        </p:nvSpPr>
        <p:spPr>
          <a:xfrm>
            <a:off x="4876920" y="510552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= regression coefficient (not standard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95280" y="5181480"/>
            <a:ext cx="19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ression con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raw score on criterion variable when raw score on predictor variable is 0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regression line crosses y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-score regression coefficie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he predicted criterion variable increases for every increase of 1 on the predictor variabl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ope of the reg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Example: Info needed to compute Pearson’s r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00200"/>
          <a:ext cx="8229600" cy="4514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1190880"/>
                <a:gridCol w="1187280"/>
                <a:gridCol w="1189080"/>
                <a:gridCol w="1187280"/>
                <a:gridCol w="1951200"/>
              </a:tblGrid>
              <a:tr h="68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M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Mx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-M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-My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Mx)(y-M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=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=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x=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y=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 = 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73"/>
          <p:cNvSpPr/>
          <p:nvPr/>
        </p:nvSpPr>
        <p:spPr>
          <a:xfrm>
            <a:off x="8086680" y="4724280"/>
            <a:ext cx="1790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sum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odu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"/>
          <p:cNvCxnSpPr>
            <a:stCxn id="61" idx="1"/>
          </p:cNvCxnSpPr>
          <p:nvPr/>
        </p:nvCxnSpPr>
        <p:spPr>
          <a:xfrm flipH="1">
            <a:off x="7619760" y="5432040"/>
            <a:ext cx="4672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8:03:36Z</dcterms:created>
  <dc:creator>Kim Schneider</dc:creator>
  <dc:description/>
  <dc:language>en-US</dc:language>
  <cp:lastModifiedBy>Schneider, Kimberly</cp:lastModifiedBy>
  <dcterms:modified xsi:type="dcterms:W3CDTF">2013-11-14T16:25:19Z</dcterms:modified>
  <cp:revision>27</cp:revision>
  <dc:subject/>
  <dc:title>Supplemental Material: Hypothesis Testing for Correlation &amp; Regression</dc:title>
</cp:coreProperties>
</file>